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101-BF78-4648-A154-F795E7C9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3A9-FD6F-4938-A18A-1D2CC561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4D2-A146-4890-9639-1EE81559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841-562C-44C5-B267-6B9BE2C4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4F1F-30DF-4612-8643-2857EF82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1822-2B4B-4C6C-9438-43CFA2F7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EDCE-9D48-49C3-A1BC-B2BF7750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8E4F-B6C4-47B9-AC38-222FC43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DAE6-8172-4E08-9266-C813DF81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173-253F-4748-9875-58F0161B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735A-62A7-4921-BCD2-4CFAC6B5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EA5-B228-4E68-8825-BAB62542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46A3-2A9E-4967-852B-B718A3F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85F1-9026-470B-A8BC-CB7A2806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BA6-783D-421A-944C-3F1C78D3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9E3D-1FFB-4DD1-9FBF-ACA4F0E8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83A0-67C1-4121-824B-3F892BB0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3FE-8828-402A-814C-C044B75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ABB-99EC-4F67-AB8C-4B416480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352-6690-4B69-B3BB-CCC777F5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F3F-D7BB-4ED6-A3EB-E9B1084F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55E-DC42-40A3-ABB6-1B5F8D25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85E-B904-4D53-AF22-41A2DC92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F35-341E-47C8-A0EC-ECCC0E6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DC3-588B-434E-859C-F2B78FB73B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102E-5CEF-4E4D-A679-811B4ACEB9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 of PUC Discussion on Nodal Market Ado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 Advisory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7,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C Nodal Discussion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 D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irman Hudson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recommendation October 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stion whether a milestone date is more appropria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to have a date certain for cuto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ssioner Parsley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s it may require around 3 ye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s January 1, 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ssioner Smitherman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9 recommendations too far off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s January 1, 200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6 months after completion of the contested case, but that’s not a date cert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C Nodal Discuss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sion needed to PUC rules to change effective date of nodal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t to which the zonal model continues to be modified during the transition perio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ton li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nt appeal of PRR55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detailed transition pla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C Nodal Discuss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going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 filing expected Sept.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 of issues to be filed Sept.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new docke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ket No. 31540—Protocol approval do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No. 31575—Zonal market improv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No. 31600—Transition iss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:  initiated a comprehensive study to recommend economic transmission improvements to mitigate the impact of constraints in the transition to nodal (target completion: January 31, 2006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C Open Meeting Discuss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ly 2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&amp; August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ion memos from all three commission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procedural ste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efing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dockets establish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 PUC Discu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ensus that best possible market going forward is a nodal desig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ussions focu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issues to be (and not to be) address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 certain for implement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 requirements and sched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C Discussion 7/29/05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irman Huds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givings about imposing even more change on the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eptical of CBA resu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eptical of claims of severe disrup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an incremental approach does not resolve market uncertain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s notion that the public interest not served by change to nod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agrees with the need for a Texas nodal chan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UC Discussion 7/29/05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hairman Hudson:  Precondi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—not in a press to move rapid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ime for education of all MPs, especially smaller M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detailed implementation pl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orough testing and parallel operations, inc. independent certification of readin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hasize ability to identify transmission bottlenecks—ERCOT to conduct a stu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to review alternatives to allocation of CRRs or auction revenu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nger considering single load z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based offer limitations for some peri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consider whether/how to improve current systems in the interi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C Discussion 7/29/05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irman Hudson:  Key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look at elements of TNT design to determine whether in the public interest.  Particularl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sholds for automatic mitig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tlement z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y-ahead market de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R/ARR allo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C Discussion 7/29/05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ssioner Parsle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d searched for a “medium ISO” model, but now believes must have either a “min ISO” or “max ISO” mod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we need ERCOT in middle of scheduling and deploy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ted to bilateral contracts and self schedu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UC Discussion 7/29/05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missioner Parsley:  Condi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 transmission planning &amp;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increase involvement of PUC to assure adequate urg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te hedging mechanis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ested in proposals about how CRRs could be allocated to loa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te credit requirements to maintain bilateral contracts and prevent leaning on market:  Key Iss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le zonally—agree with TNT load zones and NOIE load zones, but willing to revie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ergy only capital market with adequate mitigation measu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s of implementing nodal market born by genera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zonal market improvements during the tran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 and training must be a pr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UC Discussion 7/29/05 &amp; Memo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missioner Smitherma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2103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both economic and operational reasons to move forward with all speed to implement the TNT designed Protoc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respect the expertise and consensus of T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leadership has endorsed a nodal desig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-benefit analysis shows $6 billion benefit to loa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imony from experts in other markets supports n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s to nodal are not a low-cost panac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NT represents many compromises among the stakeholders.  Compromises should be respec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vors small load zones, even nodal sett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7:37:21Z</dcterms:created>
  <dc:creator>dreyfusm</dc:creator>
  <dc:description/>
  <dc:language>en-US</dc:language>
  <cp:lastModifiedBy>dreyfusm</cp:lastModifiedBy>
  <dcterms:modified xsi:type="dcterms:W3CDTF">2005-09-07T15:19:55Z</dcterms:modified>
  <cp:revision>9</cp:revision>
  <dc:subject/>
  <dc:title>Slide 1</dc:title>
</cp:coreProperties>
</file>